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BBCF-0662-471B-AC3E-751FC346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A723-4F6F-4D3C-8363-56FACFE8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7159-C6AC-42C2-8FC3-6F29DE39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F47D-7049-49A5-89B8-24F983DE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86A-281F-434F-A005-2A6517F8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784-3B70-4856-8838-EDFC6C91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A5A8-FB9F-4F8D-9CE5-28914982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678-88A7-47E8-BBD4-DDC0E8E0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CE6-FE39-4788-A270-AFEBF08E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98F-6034-416C-877F-D92CD882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5C7E-E02A-4D66-85AD-FE686F0E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1D2-3171-4553-A765-4F67983C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257E-7B2D-49A5-9CFC-3F36B6EDC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OLND_80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86400" y="304920"/>
            <a:ext cx="342900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كل مَرَّة لمّا مْنِتْلاقى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مْنِتمنّى تِسْكُن عِنّ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بالقَلِبْ لَفْتيِ حِرَّاقة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 تَضّلَّك دايماً مع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نتَ الحُبّ المالو حْدود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بيمَلّي هالأرض وعود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حُبّك بالقَلِبْ موجود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هوني السَّما بْتُغمُرْ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OLND_80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86400" y="304920"/>
            <a:ext cx="342900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إنت الـ خبَّرِتْ إنَّك            لمّا تْنَيْن بجَمْعِتْهُم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بيتلاقو يغنّو إسمَك            بتجي وبتقعد معهم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خلِّينا معك عاطول           لـَ لَحْظَة ما تتركنـا 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خلِّينا معك عاطول           لـَ لَحْظَة ما تتركنـا حُبّك بالقَلِبْ موجود          هوني السَّما بْتُغمُرْ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OLND_80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86400" y="304920"/>
            <a:ext cx="342900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كل مَرَّة لمّا مْنِتْلاقى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مْنِتمنّى تِسْكُن عِنّ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بالقَلِبْ لَفْتيِ حِرَّاقة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 تَضّلَّك دايماً مع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نتَ الحُبّ المالو حْدود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بيمَلّي هالأرض وعود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حُبّك بالقَلِبْ موجود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هوني السَّما بْتُغمُرْ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OLND_80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86400" y="304920"/>
            <a:ext cx="342900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إنتَ الـ قِلْتِلنا تنضلّ         بالمحَبّة مرتبطين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حتّى النور علينا يْهِلّ       وحَولَكْ نِبقى مِتِّحدين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بالوِحدِة بدَّك نعيش         وغير الـ بدَّكْ ما بَدْنا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بالوِحدِة بدَّك نعيش         وغير الـ بدَّكْ ما بَدْ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حُبَّك بالقَلِبْ موجود        هوني السَّما بْتُغمُرْ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OLND_80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86400" y="304920"/>
            <a:ext cx="342900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كل مَرَّة لمّا مْنِتْلاقى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مْنِتمنّى تِسْكُن عِنّ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بالقَلِبْ لَفْتيِ حِرَّاقة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 تَضّلَّك دايماً مع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نتَ الحُبّ المالو حْدود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بيمَلّي هالأرض وعود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حُبّك بالقَلِبْ موجود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هوني السَّما بْتُغمُرْ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3:59:57Z</dcterms:modified>
  <cp:revision>1</cp:revision>
  <dc:subject/>
  <dc:title>PowerPoint Presentation</dc:title>
</cp:coreProperties>
</file>